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366C-0C9D-49A3-AA42-DE11E36C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440" y="443556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5A7A-E6D5-4AEB-8697-FFA1E143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5120" y="22860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43556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785120" y="443556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A6B2-ADC0-4913-954A-56B45F349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90840" y="228600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6240" y="228600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440" y="443556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90840" y="443556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96240" y="443556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FC87-4A93-4F5A-923A-D032F47B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09C3-286A-4115-AD7F-D33DCD93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5C4E-1DED-4696-BE82-1A994565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7744-275D-49FB-B51A-3D7EA50E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85120" y="228600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F91A-E933-4451-B96C-C55BFFF7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ED25-EB24-47CD-B024-A5062449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33B4-F1A7-4A34-B063-4283579F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85120" y="228600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440" y="443556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11DB-CC7A-452A-B1B3-B3593A47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321A-890B-4283-8608-C2DF38FB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85120" y="22860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85120" y="443556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326A-3772-4BBA-8BA1-7EDF6043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85120" y="22860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440" y="443556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77AC-FDA7-40AD-B313-803060A0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85440" y="443556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FE3F-B195-46F3-B3C7-82D5CA3F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5120" y="22860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440" y="443556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85120" y="443556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0F80-C92F-413A-85F6-F9164D68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90840" y="228600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96240" y="228600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85440" y="443556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90840" y="443556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96240" y="443556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AE4C-24C9-448E-B5A9-4025F63D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3F1F-D516-4946-BA6E-003B3334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5120" y="228600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F283-7253-4A77-A022-E702E654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A674-175A-4461-83E0-A9E6472B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656A-56E7-4CD2-8F04-1398A15F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85120" y="228600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440" y="443556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BF44-4433-4EFE-A991-A8EF31D9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5120" y="22860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785120" y="443556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904E-FAEB-4032-9F3C-E9D7C6B2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85120" y="228600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440" y="443556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9481-D385-487D-B000-C92F77AB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66680" y="1676520"/>
            <a:ext cx="7848720" cy="5181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440" y="2286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195120"/>
            <a:ext cx="838080" cy="6662880"/>
            <a:chOff x="0" y="195120"/>
            <a:chExt cx="838080" cy="6662880"/>
          </a:xfrm>
        </p:grpSpPr>
        <p:sp>
          <p:nvSpPr>
            <p:cNvPr id="5" name=""/>
            <p:cNvSpPr/>
            <p:nvPr/>
          </p:nvSpPr>
          <p:spPr>
            <a:xfrm>
              <a:off x="149400" y="423720"/>
              <a:ext cx="41904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49400" y="1947600"/>
              <a:ext cx="41904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9640" y="187164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99160" y="210024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9640" y="24811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280" y="17953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49400" y="20239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19520" y="45385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48920" y="24048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99160" y="27097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29040" y="30906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09160" y="30906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9640" y="278604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9520" y="36241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29040" y="36241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39400" y="35478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9640" y="42336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78800" y="347184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88800" y="42336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99160" y="461484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19040" y="370044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9640" y="40050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48920" y="29383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760" y="30906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59280" y="484344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19520" y="51480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9160" y="51480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9640" y="49194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48920" y="51480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19520" y="58338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49400" y="56815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040" y="53766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99160" y="575784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388800" y="56815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09160" y="621504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29040" y="614016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78800" y="636588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69280" y="63673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760" y="63673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99160" y="40813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9040" y="210024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520" y="24811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8680" y="44622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08680" y="26334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8680" y="49957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8680" y="583380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29160" y="196560"/>
              <a:ext cx="628200" cy="1598760"/>
              <a:chOff x="29160" y="196560"/>
              <a:chExt cx="628200" cy="1598760"/>
            </a:xfrm>
          </p:grpSpPr>
          <p:sp>
            <p:nvSpPr>
              <p:cNvPr id="52" name=""/>
              <p:cNvSpPr/>
              <p:nvPr/>
            </p:nvSpPr>
            <p:spPr>
              <a:xfrm>
                <a:off x="238680" y="425160"/>
                <a:ext cx="14940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98440" y="958680"/>
                <a:ext cx="1494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78080" y="1036440"/>
                <a:ext cx="1494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07960" y="428400"/>
                <a:ext cx="14940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80360" y="1261800"/>
                <a:ext cx="14976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50000" y="1414440"/>
                <a:ext cx="14976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8560" y="880920"/>
                <a:ext cx="14976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88440" y="1185840"/>
                <a:ext cx="1494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38680" y="1414440"/>
                <a:ext cx="1494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58200" y="501480"/>
                <a:ext cx="14976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18320" y="653760"/>
                <a:ext cx="14940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08800" y="730080"/>
                <a:ext cx="1494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920" y="1035000"/>
                <a:ext cx="14976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9040" y="577800"/>
                <a:ext cx="1494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9160" y="1263600"/>
                <a:ext cx="1494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18320" y="196560"/>
                <a:ext cx="14940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8800" y="272880"/>
                <a:ext cx="1494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89640" y="195120"/>
              <a:ext cx="5086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347400"/>
              <a:ext cx="14940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520" y="1261800"/>
              <a:ext cx="1195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9640" y="1643040"/>
              <a:ext cx="5086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8800" y="271440"/>
              <a:ext cx="14976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8800" y="1261800"/>
              <a:ext cx="26928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9160" y="2481120"/>
              <a:ext cx="179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9C9F-7B97-4252-9728-1EAB38DA5AC6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6031080"/>
            <a:ext cx="222120" cy="82692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057400" y="1982880"/>
            <a:ext cx="685800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6320" y="228600"/>
            <a:ext cx="2057040" cy="6651720"/>
            <a:chOff x="76320" y="228600"/>
            <a:chExt cx="2057040" cy="6651720"/>
          </a:xfrm>
        </p:grpSpPr>
        <p:sp>
          <p:nvSpPr>
            <p:cNvPr id="119" name=""/>
            <p:cNvSpPr/>
            <p:nvPr/>
          </p:nvSpPr>
          <p:spPr>
            <a:xfrm>
              <a:off x="443520" y="457200"/>
              <a:ext cx="102852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3520" y="1981080"/>
              <a:ext cx="102852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6640" y="190512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0720" y="213372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6960" y="25146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57960" y="18288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3520" y="20574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9720" y="45720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78280" y="24382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0720" y="27432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84520" y="31240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0400" y="31240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6640" y="281952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9720" y="36576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84520" y="36576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3840" y="35812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6960" y="42670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51720" y="350532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31400" y="42670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10720" y="464832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04840" y="373392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640" y="40384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78280" y="29718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2840" y="31240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57960" y="487692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9720" y="51814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0400" y="51814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6960" y="49528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78280" y="51814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9720" y="58672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3520" y="57150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84520" y="54100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0720" y="579132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31400" y="57150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0400" y="624852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84520" y="617364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51720" y="639936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7640" y="64008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840" y="64008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0720" y="41148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04840" y="213372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9400" y="25146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25160" y="44956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25160" y="26668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25160" y="50292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25160" y="586728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47960" y="230040"/>
              <a:ext cx="1542600" cy="1598760"/>
              <a:chOff x="147960" y="230040"/>
              <a:chExt cx="1542600" cy="1598760"/>
            </a:xfrm>
          </p:grpSpPr>
          <p:sp>
            <p:nvSpPr>
              <p:cNvPr id="166" name=""/>
              <p:cNvSpPr/>
              <p:nvPr/>
            </p:nvSpPr>
            <p:spPr>
              <a:xfrm>
                <a:off x="662400" y="458640"/>
                <a:ext cx="36720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08920" y="992160"/>
                <a:ext cx="3672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49920" y="1069920"/>
                <a:ext cx="3672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323360" y="461880"/>
                <a:ext cx="36720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9480" y="1295280"/>
                <a:ext cx="36756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180800" y="1447920"/>
                <a:ext cx="36756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15160" y="914400"/>
                <a:ext cx="36756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29600" y="1219320"/>
                <a:ext cx="3672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62400" y="1447920"/>
                <a:ext cx="3672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55800" y="534960"/>
                <a:ext cx="36756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03040" y="687240"/>
                <a:ext cx="36720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88600" y="763560"/>
                <a:ext cx="3672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94480" y="1068480"/>
                <a:ext cx="36756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21400" y="611280"/>
                <a:ext cx="3672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7960" y="1297080"/>
                <a:ext cx="3672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03040" y="230040"/>
                <a:ext cx="36720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68280" y="306360"/>
                <a:ext cx="36720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99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296640" y="228600"/>
              <a:ext cx="124884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320" y="380880"/>
              <a:ext cx="36720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9400" y="1295280"/>
              <a:ext cx="29376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6640" y="1676520"/>
              <a:ext cx="124884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72040" y="304920"/>
              <a:ext cx="36756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72040" y="1295280"/>
              <a:ext cx="6613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0720" y="2514600"/>
              <a:ext cx="44064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0FDC-5C9D-44C3-B792-9499E19D461C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ffcc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Sir, We Would See Jesus”</a:t>
            </a: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562120" y="2286000"/>
            <a:ext cx="58197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Quarter 10, Lesson 1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ohn 12:20-50; Matt. 21:19 – 22:22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rk 11:12 – 12:44; Luke 20:1-26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ages 133-139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496B-EF9A-4AF9-9100-927DB5D66B96}" type="slidenum">
              <a:t>1</a:t>
            </a:fld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3055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The Parable of the Landowner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Mark 12:1-12; Matt. 21:33-44; Luke 20:9-18</a:t>
            </a:r>
            <a:endParaRPr b="0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e also asked them about the parable of the landowner who left his vineyard in the care of vine-dress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y answered correctly – punish th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landowner represents Go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vine-growers the Jews or their leade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servants were the prophe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son was Chris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2A72-D8F5-4DB9-8571-D59831F7481B}" type="slidenum">
              <a:t>10</a:t>
            </a:fld>
          </a:p>
        </p:txBody>
      </p:sp>
    </p:spTree>
  </p:cSld>
  <p:transition spd="med">
    <p:zoom dir="in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3055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The Parable of the Marriage Feast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Matt. 22:1-14</a:t>
            </a:r>
            <a:endParaRPr b="0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e explained Psalm 118:22-23 to the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y understood that He was referring to th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rulers wanted to arrest Hi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king who prepared a marriage feast for his son and sent for the invited gues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invited guests represented the Jew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servants were the prophe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evil and the good on the highways - the worl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ne attendee insulted the host (God) and cast ou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A138-765F-491D-B502-B30515F84BB9}" type="slidenum">
              <a:t>11</a:t>
            </a:fld>
          </a:p>
        </p:txBody>
      </p:sp>
    </p:spTree>
  </p:cSld>
  <p:transition spd="med">
    <p:zoom dir="in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3055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Some Try To Trap Jesus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Mark 12:13-17; Matt. 22:15-22; Luke 20:20-26</a:t>
            </a:r>
            <a:endParaRPr b="0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Pharisees and the Herodians tried to trap Him in His wo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s it lawful to pay taxes to Caesar, or not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y wanted a “yes” or “no” answ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e showed them an image of Caesar on a coi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e said, “Render to Caesar the things of Caesar’s, and to God the things that are God’s.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y marveled and kept quie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64CF-113F-4C12-A321-DFE9BE219491}" type="slidenum">
              <a:t>12</a:t>
            </a:fld>
          </a:p>
        </p:txBody>
      </p:sp>
    </p:spTree>
  </p:cSld>
  <p:transition spd="med">
    <p:zoom dir="in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The Life of Christ</a:t>
            </a:r>
            <a:endParaRPr b="0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epar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eginning Ministr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Galilean Ministr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tir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ose of Ministr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Last Wee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surrection and Exalt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6" name=""/>
          <p:cNvSpPr/>
          <p:nvPr/>
        </p:nvSpPr>
        <p:spPr>
          <a:xfrm>
            <a:off x="6400800" y="4876920"/>
            <a:ext cx="2362320" cy="520560"/>
          </a:xfrm>
          <a:prstGeom prst="rect">
            <a:avLst/>
          </a:prstGeom>
          <a:noFill/>
          <a:ln w="763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We are here!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657600" y="5181480"/>
            <a:ext cx="2666880" cy="0"/>
          </a:xfrm>
          <a:prstGeom prst="line">
            <a:avLst/>
          </a:prstGeom>
          <a:ln w="572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A7B-7D64-49A9-8DA8-1758A4F575F2}" type="slidenum">
              <a:t>2</a:t>
            </a:fld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3055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Certain Greeks Seek Jesus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John 12:20-22</a:t>
            </a:r>
            <a:endParaRPr b="0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se Greeks were either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oselytes” 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God-fearers”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y came to Jerusalem for the feas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y asked Philip,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Sir, we would like to see Jesus”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d, they probably di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7833-72B7-4321-8A2B-BFB91A51247C}" type="slidenum">
              <a:t>3</a:t>
            </a:fld>
          </a:p>
        </p:txBody>
      </p:sp>
    </p:spTree>
  </p:cSld>
  <p:transition spd="med">
    <p:zoom dir="in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3055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Jesus Foretells His Death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John 12:23-36</a:t>
            </a:r>
            <a:endParaRPr b="0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esus said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hour has com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 grain of wheat must die to bear much frui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e who hates his life...will keep it unto life eternal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f anyone serves me, he must follow m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ather, glorify Your nam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 voice spoke from heaven – “I will glorify it again”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prince of this world will be cast ou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f I be lifted up, I will draw all men (includes Gentiles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elieve in the Light so you may be children of Ligh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AF3C-E4FC-4383-8FDB-7A8A0D2D3EDA}" type="slidenum">
              <a:t>4</a:t>
            </a:fld>
          </a:p>
        </p:txBody>
      </p:sp>
    </p:spTree>
  </p:cSld>
  <p:transition spd="med">
    <p:zoom dir="in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3055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They Could Not Believe”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John 12:37-41</a:t>
            </a:r>
            <a:endParaRPr b="0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esus left the crowd and hid Himself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saiah 53:1 fulfille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e has done many miracles, yet most of the people still did not believe on Hi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reasons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y hear, but understand no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y see, but perceive no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ir hearts are harden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B729-F0C1-4D5B-99C7-6FC67D2A4CB3}" type="slidenum">
              <a:t>5</a:t>
            </a:fld>
          </a:p>
        </p:txBody>
      </p:sp>
    </p:spTree>
  </p:cSld>
  <p:transition spd="med">
    <p:zoom dir="in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3055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Some Did Believe On Him”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John 12:42-50</a:t>
            </a:r>
            <a:endParaRPr b="0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ome “rulers” believed on Him but would not confess Hi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eared the Pharise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id not want to be put out of the synagog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y loved the praise of men more than the praise of Go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esus said, “The word I have spoken, the same shall judge him in the last day.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26C2-974B-4F9E-9913-A13FD614F5DF}" type="slidenum">
              <a:t>6</a:t>
            </a:fld>
          </a:p>
        </p:txBody>
      </p:sp>
    </p:spTree>
  </p:cSld>
  <p:transition spd="med">
    <p:zoom dir="in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3055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Barren Fig Tree Found Withered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Mark 11:19-25; Matt. 21:19-22; Luke 21:37-38</a:t>
            </a:r>
            <a:endParaRPr b="0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member the barren fig tree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s they passed it the next day (Tuesday), they noticed that it had withered from the roots u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is disciples were amaze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esus said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ave faith in Go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ith no doubt in the heart, it will be granted to hi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f you do not forgive, your sins will not be forgive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B185-5F7F-45BF-8AB3-CAADA741D57C}" type="slidenum">
              <a:t>7</a:t>
            </a:fld>
          </a:p>
        </p:txBody>
      </p:sp>
    </p:spTree>
  </p:cSld>
  <p:transition spd="med">
    <p:zoom dir="in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8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8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1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7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3055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Jesus’ Authority Challenged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Mark 11:27-12:12; Matt. 21:23-22:14; Luke 20:1-19</a:t>
            </a:r>
            <a:endParaRPr b="0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n Tuesday, Jesus again taught in the temp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rulers asked Him, “By what authority are You doing these things, and who gave You this authority?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esus answered with a question, “Was the baptism of John from heaven, or from men?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rulers did not want to answ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esus then would not answer their ques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5E51-E3E9-4B6B-BABB-B008A8C3758F}" type="slidenum">
              <a:t>8</a:t>
            </a:fld>
          </a:p>
        </p:txBody>
      </p:sp>
    </p:spTree>
  </p:cSld>
  <p:transition spd="med">
    <p:zoom dir="in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3055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The Parable of the Two Sons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Matt. 21:28-32</a:t>
            </a:r>
            <a:endParaRPr b="0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esus asked them to answer the question about the two sons who were told to work in the vineyar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y answered correctly – the one who repent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first son represented the publicans and harlo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second son was the leadership of the Jew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leaders did not accept John’s teaching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21A8-FF38-47B5-941E-8D4A1CC3943F}" type="slidenum">
              <a:t>9</a:t>
            </a:fld>
          </a:p>
        </p:txBody>
      </p:sp>
    </p:spTree>
  </p:cSld>
  <p:transition spd="med">
    <p:zoom dir="in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3T21:22:05Z</dcterms:created>
  <dc:creator>Frank D Vines</dc:creator>
  <dc:description/>
  <dc:language>en-US</dc:language>
  <cp:lastModifiedBy>Frank D Vines</cp:lastModifiedBy>
  <dcterms:modified xsi:type="dcterms:W3CDTF">2006-08-04T15:42:08Z</dcterms:modified>
  <cp:revision>14</cp:revision>
  <dc:subject/>
  <dc:title>Slide 1</dc:title>
</cp:coreProperties>
</file>